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57199-FB8E-41B9-9F2B-565AB4E3B2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75E91-775F-4264-AAF8-02D2E2CD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441E58-3997-4AF3-8DC9-2AB8AE12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30DA9B-AA24-4329-A90B-C0D423CD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140BD6-F909-42AB-A704-EB6FF2E3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ED7643-1EAF-4102-89BA-406C96E0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C45DA7-C58F-443C-8684-AD821A79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757A3A-BA49-418B-BD40-3B802AC8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C6742F-5F7F-49F9-8127-E9CA8217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B7FD59-9260-4C7B-9BC1-AC65EBC9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4EFBC3-D5AF-4745-AA39-D2C188E5FF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01C21-71CA-401F-9683-A5D4962DC8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0F613-3B9E-4ADE-9C3A-64FE5935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A95C1-F0A9-4C98-A723-5F4DB87D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6479D-8E1C-48CA-8CF8-4C9154EB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A87B1-C107-4769-AE50-655028A0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168B6-7967-4E11-8798-63AD00D5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065EB-C174-411B-82DF-1C964589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85CD1-E8E5-4024-B9A2-4ACAA3F7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AD28B-34EC-4431-866A-89C84068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C57F6-62AE-4829-9187-041FA6CE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4B848-6F7A-48E2-AA5E-4D10EB3B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A9C3F-69BE-4F26-B735-F31CB4C2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90C6A-8C10-4455-88DC-9AD0C467D2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93DED-9DC4-44EC-9841-64B1B2E362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281060-C0F7-4D1E-BC93-15CDDBDEBC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4A325E-62A9-487B-87FC-C17040F9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0A1B37-EB2A-40A7-BC52-AD6FAF8E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4848BB-46F7-4A44-9307-80D3A5DC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9D24CF-7F97-45CC-A4AB-AF71F1A7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454866-6B10-41C3-99D2-628A62A1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9A2E58-E34D-4775-A998-44C7DAC5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4392F8-10CE-4307-A4D3-C3457812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EFBEAD-9DBF-403F-85E1-9D6D3E30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431A6-1E48-4BF4-B630-A67C9C51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87F55C-8661-4ECA-9215-A39A04CD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BAEBC0-2D57-4791-84B7-D0B15301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F4DA3F-1C39-4EC1-8DDB-8B9AC57160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BDE791-150A-401A-9373-64E095EC5A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E71FCC-61DB-4DFC-A113-CE698ABD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565ED4-AAFB-424C-8F2A-DE9C1F66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014961-9909-4841-9924-1216DD09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8380EE-1C44-45ED-9CBB-55BB627A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01FE6C-9948-4452-BD63-904A97D8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FCD2B0-E571-4014-A592-0BF4EA5D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A32FF-4247-4A22-8A24-A1DCA714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7219BC-E2DF-4DB0-A91F-7AD6D3EE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0AB6B3-7B7B-420A-93FE-18DB467B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F0D880-0B41-48FB-9B9B-0B2C8DC8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6024CC-54D3-40AD-94EB-43D32BFB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926AA4-724A-4F34-A327-265CD5D371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91D7B-08EA-4D2F-840E-31A46679C5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DE13E-63E6-4974-B37B-EC2382A6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DE3BC-589F-4A43-9D3C-1E31D266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22434-CDCA-4713-B6B6-4A20E65C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24746-EBC8-4C5C-B4F3-649C5ADF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316C6-4F63-4A46-9AAC-C978B72A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A238C-96AB-429C-BBDA-27EBF448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BC078-11E8-4D21-AB81-50454367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C142A-0995-486F-97F4-EE313424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A0CB9-1F7F-485D-AE8D-3E514379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166CF-0173-4D34-8375-5D740044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7E0B3-C2A5-4897-A7AA-DD43531F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FEC85-0A8E-40BA-9F23-245F5ED150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2384B-A838-43AD-B37F-331BF782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0CC30-7807-47D1-A789-3F001C34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2CD42-CE5A-4C07-8985-DC70A687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0C26F-C959-40B5-8692-99CB8B52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06B5A-25F1-4556-80C4-DBBDA070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106DE-E3BA-4192-B64A-F2A0EF20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53265-7BE1-4DD7-83A5-62137767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F9AA3-54A8-48A2-8EA4-790C5612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31B13-1E5C-4433-A698-9700AB0E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9036D-99ED-461C-B78A-68C8352C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697D3-4221-4842-9C03-7FD54664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C9533-84F1-4FCF-9B41-470D9EE3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FA0CB-A05C-495C-AEB6-CE2F74AE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C5413-FB10-4164-B648-F477B3B2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3AE5A-4B03-439B-A568-A399EFE7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0D169-8208-4271-981A-8656B16B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8755F-D348-4583-928C-690E2290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135E8-75F1-464D-A465-5AF18217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9482C-1435-4AFC-90AB-F5332FC4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FCCD6-EC46-4BE6-B545-AF62E4E9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F76C2-0BC8-4792-8EA7-5C8AA1E6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60FCA-89AE-427A-AD47-14B1D880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41273-0657-4D30-A2E9-5A8DBC42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E0FBA-D8FC-4A36-8CAE-3E86FF12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1205B-49FE-4DC4-A130-96504D1D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824C0-8EBB-40E3-854B-DBF081D4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D13AD-0422-47CF-B00A-F304553D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437B5-6696-4188-ACC0-4F3EAF74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05E6E-EA20-44EE-B279-6F7CF89A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B74BE-E541-4CA3-8521-7302B3B4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6714F-9B9A-443C-A4D4-724C285D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63570-2081-48CB-8BD4-830209E7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D3863-DE3F-4B48-8137-721E8D11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3925F-ECBA-4D1E-9512-5B71768D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B2B6C-06E2-4C1D-B975-0829D281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67F191-28BF-4DE4-8DEE-559D46F5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97573-4AEE-4F96-8A8D-CD13698C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4E379-EE15-450F-97F3-CDB5DCC1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549FB-B0E0-46BB-8FF9-0E25819E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59B06-F1AE-4596-8FD4-A6A65CBD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1E27A2-D64A-4ABD-8695-AFD47151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107EE1-65AC-4159-92A1-FAE4C8E9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15A84C-4BCB-402A-9F5A-DFBEFAF5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125226-7A5C-4502-A7CA-ECFA1C3D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FAE4DC-4ECE-4CD3-AFD3-BC999FBA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B4EFE3-6549-4D47-8EF5-5813A909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B9C231-A9C3-4D5D-A71B-EFA14478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01309-21AD-4361-A15A-3801BA72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E5B26-B7FF-48BF-8710-4DC93586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A24FF8-6B32-481C-B9DD-7DB9855D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1A63F-3CB1-4600-A11D-6666A77C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7FB16F-E0B3-41C9-94F6-3068A36C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5837EA-CC40-4DED-9211-BA10037A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C8972B-E6E6-463A-8BBA-24A90102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124CF9-1801-43E6-A8EC-5A904AF0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CEDB0B-CAA3-454D-B54F-BD2F878E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2C243C-4597-4CB0-9473-165D295C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DD23B0-2F8C-4FF9-A058-6FF72C24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427226-060F-4BF2-B3E9-DE616AD4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BBEC3-195E-4E1B-81B3-971A5610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0B1172-5B30-4FDC-AF75-84F14041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59D143-E23F-4394-B533-6FE9A812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5A2AE3-CC56-4E3B-B49C-BC7E622F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D5D285-4E24-4796-9A29-08649CDD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455A35-FE5F-4BF7-B78C-E1F41ED2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07F1FF-27E9-4935-BE75-40E49465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EF9EC4-0F57-4DF0-A504-7B6DC2410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964C08-73F0-4035-B79B-2FB9BE0E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9714DE-0784-4AD6-B437-90274D9D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14281E-3C1D-4C52-B691-D33F6ABC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00983-8A10-41A0-9A02-28FE1061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70AB61-3F1D-46DD-A06A-A30F5DBF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8D5574-53CE-40DD-B6C1-10A23D65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A33218-922A-4D03-84BE-E0264C21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67C377-3E01-4012-9701-16C0B190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D99DD3-0A71-417D-9C9F-59D405DA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415E31-5494-4227-B7B0-5D8B3FCE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19D8F0-F6E5-4F91-9382-5A40CF54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0F60EA-812E-4D2A-922D-EEDAD0AC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616C53-B10C-4580-86B0-A263BD31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A25956-3AEC-43A4-B436-598C665E5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E546F-9579-4EBA-B4C6-7EF49AD1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7E6D69-F372-4ED5-98CE-1B1D652F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D1324F-D5CB-4EB4-847D-40753731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49B9D9-9057-4EF7-B235-E179078A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4FC5F9-A234-4FCC-9129-A96281D0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F8FCD3-BE71-4814-86ED-7E21DECE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86CE9B-C766-497C-ACBA-48F98745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8916F8-BAD1-4E9D-9266-811CC36C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B66089-BABE-4F60-B4EB-A30D9139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2B061C-C7AA-418C-AC6B-A60B1398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665B21-0406-4BDB-86CC-CE524594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1BE52-9466-4C7F-8805-00AE4CFA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BCD38E-F91B-4202-9EE4-D1194690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401FE5-E1FF-4965-8C0A-95CCC32F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65CF04-F0F1-4BC5-B8FC-BF38984E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37F5FE-3384-4D3D-BB3A-4E8196AF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7172E9-581A-4BF0-A7D4-916B68F3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FB759B-E490-45FC-B797-287CEF9A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201483-E714-4D0E-A97A-5BB74B9C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62E3FC-7591-4E31-8238-B2305A08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5969B5-131B-4301-9B95-B22621BE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8CB092-1E10-41BE-B0E6-CCDEA292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1885EC-DB06-4595-AA08-78C1F78A09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04178C-B69D-431C-AAB0-79CDC263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37FA14-5B8E-4A7A-95EA-CADEC319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7F38CC-7877-4C14-8CDD-C67669BE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384C5B-D5E3-4EF7-BE78-EB30189E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03FBA9-8412-4B27-A6D2-90747AE0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29E34F-8FC8-45ED-A17F-3A7F2F39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758B67-9109-49DB-B4BB-199FA31A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B76D53-E4EE-4150-82FB-94CDFA4F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E69960-3897-4B84-995E-9DCD10D9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99DD48-236D-4668-8FE9-9D0FB828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510D53-3A3D-4932-A3D6-6F2B129D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DCB8B0-CCD3-46DB-8511-755B3751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31203A-26CF-4490-B093-B68BE605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6D3136-C67C-4BE9-B510-6606AC6F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BD029A-3150-422B-B13D-D3BA9CC2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BF66F7-B95A-49E9-8320-41555D07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65FC40-7001-4700-AA41-07AEF687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1B58B7-F336-4876-9A14-11AA829B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FFC56A-FFCA-4C6E-AD6C-9D781E43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7674E1-3D6D-4095-8ADA-78AD8F10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783332-EA01-4A88-AE26-521BFC1C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199AAD-EC95-44E4-9E80-930C12A3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08C31E-74D0-4B0E-86C9-F81B7CDE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A49DAE-D06E-4293-81A4-5D56F6FD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C96205-3E49-468B-94B5-97935183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14837D-57F2-45BC-B9E2-8D4546E7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92BD01-3F22-4C42-A0B6-F24FA67F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7D9C60-2B0B-4620-932C-1E4CC3D4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D63BF5-AAD1-4507-A672-EE2C5A9F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C7F02E-0CD2-484A-9008-81780FFE7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4EFC9E-50A4-4AD1-8611-1984A619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8A5BBF-5BE5-4E89-BB8F-E9DBBEF2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AE3902-B6DD-4047-B290-DC85EDC7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23C686-6B38-4B6F-9029-D9FA7BFA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FE6CA2-1038-4161-830B-1BCDD6F2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8D67B1-D066-4FC6-AFBC-86A9BE96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682D7F-432F-489A-B753-E0D8329A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1FD8CD-9DFF-419C-96C4-6CAD474B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872CF3-C4AC-4253-9242-04DBE5E8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0DFF0F-E757-46F2-BC31-6DC7C89B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C01786-854C-440B-8498-25B5861C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78DB62-CFA7-4180-A051-F5E9C0E5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C0A416-AD7B-4C1B-A6A6-BFB78A1B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89BA6-DE8D-4D73-B355-37FBD4B3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0E4311-D316-4599-89E7-B937D52A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FC694C-7307-4B89-9A94-958B5EA1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883424-CB60-4F27-B197-6FA96273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60486B-E43B-4716-90A7-2CE974DC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237DBC-FC40-4ACF-921D-13FBC587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BF75E2-A30D-4E7E-AC26-CAE15FD7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82A500-8098-498E-A842-537BC266CA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F70B3-5A93-4C98-AC86-CFF7F526AB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28F99-1849-40BA-AA3B-716AAB9C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A3CB1-694C-414B-BB95-9F7DB9A0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BB552-C836-40A1-B4EE-F011D139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0DD1B-4F77-46CC-9184-DE9C948A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BBD47-952E-4190-96FD-BA17EF77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5B05B-386F-487B-91A0-D453F3E6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F895D-27E0-44FB-8699-18C204CD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2FAB1-00F2-400C-BCF1-DDD81DDB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D8274-1CCC-401E-8BF6-12298102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E1D8F-A436-4EC9-A84E-12096209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D090C-6536-491C-B2C7-01BF332A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31602-D48E-48B2-A641-88E283FA5E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1A5C36-50C0-4685-8704-C130084332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D322B-B959-4374-8346-2D4CDBF9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469368-D92E-44B2-AD8B-09854E1F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E58FCB-6065-4645-8426-7932CC1B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40AE0A-A808-4ECE-9A2D-9ACB3ADA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7BF451-C5C8-4FC0-9AB1-1433B69D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01AC82-74AB-4B41-93D5-45BE005A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9D2A79-E782-47F5-9527-17CAB0D6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A0C484-6664-42B8-AA71-68B26034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14F231-5649-405C-818E-42621C19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B2ECE2-7440-4F13-B749-99E5AA86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822073-DE2F-4153-ADE1-1309A897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62BF6-1511-4637-9E96-316996BC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46F76F-518A-48AE-9874-BBF2267A81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17D52F-FB38-4AB8-8BD6-92EA7E8B14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0F6A7C-376E-4382-A900-57BFBC4C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90D566-E9AA-4EED-A96E-093DF09F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CFA900-68F3-4D2F-8E3B-5FC729E7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C98486-013F-43B0-AA73-99504BCA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1AC211-27C5-4752-8F1B-DD3DD8F6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59CC7A-CA6F-4926-971E-8A7312C0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85C353-A31E-400F-A822-A613C87D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F73839-8784-46C9-AE37-9588156E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2191F-8AB5-4585-9D12-AF7FD495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74AC4B-E4EB-437C-A883-C7487DE4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04B9AE-97E5-442A-AEA5-D01E113C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051DCD-3352-4607-B5D2-D7107419A1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6119E-9E6F-48DF-AAA2-C5D87C5DEA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DBED1-9088-4FC4-895A-B2CFD6FC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14563-6E96-4A10-A261-37B53CC6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04D80-00A8-41BE-AE42-D709F71A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DB7A4-C11E-4121-AEF2-6FC3A1E87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67DA8-5090-4C17-94E0-0323C0DF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10DE1-B05B-4967-BDCD-3FD8F53E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2DA96-C8F8-43F5-95A9-414C92C3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D7408-C6AB-4659-97DA-5A14C75D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82003-2D14-4BAF-9E1C-E388A206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58D85-A423-4409-98E3-B2F87396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3DD26-E2C6-45F8-A347-3E4F4CF8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21316-936A-4C12-9E47-2A029D173A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1CC362-6EE8-4F20-9976-6B56852145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DCE8D3-30D0-4104-AE3E-10E630A9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BCA237-56DA-4DCD-8F84-C060AB6D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B51C0A-E24B-48FA-B495-5596A5B4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CF1EFF-9E55-4695-A7F0-A2EBBAD0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28F68-0556-4A68-B762-8FB94381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9A6286-F1EA-4017-ACFD-A3FC2B90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A1D675-9D1A-4D16-A9DF-7E72F86B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33286C-C7F8-432A-A647-14748884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02F5A0-E369-4824-8E72-58A8CA5D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0114F0-9BCE-43EF-BA18-408B2A97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665910-C2C5-431A-91DB-70A7B657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748E62-49D6-4D97-9B4C-B2E443DE2D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7E283C-8EE0-4EFD-9F4E-0696D94395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9F8920-4284-4E4B-B340-51F7B570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B13A76-773C-494D-85C7-E3DC2036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0979-C5EC-4636-AA18-4C2A166B3D5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1BB4-9F11-4280-8611-F2100E14D1F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8025-220F-42F7-89B6-785485227F7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867F-F3DB-4C26-A315-CE6ED591A75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FB5E-D195-402E-A5F8-3E05D1BDB72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4FD9-288D-4B29-9826-EBED4CA8C25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8468-2E4E-485F-A493-431D3A4EB08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6595-DDA2-46C3-8869-D02E17CBB43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C00B-D832-4A92-9433-35690CCB5A2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94C0-506F-4800-9844-45988118F53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3E45-2F90-48AE-9313-C9F3C9468DF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E3EE-6516-4433-82C9-C5100393BDA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9175-C00F-4A24-A4AE-75BD15BB92C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46F1-5198-481E-BF22-B048A43F9E8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41B4-679A-4719-BFD4-4B309CEC169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66BF-07F8-4516-A110-26DF3937958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1F93-0F8B-4A9C-9C0B-17EEDC2A1B8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935E-456D-4DD7-A158-E3602DDCEBD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1CA4-C20F-4215-9C5A-65421E2C9B8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6E3A-FE6D-4D09-AC04-3B403F745F6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8DFE-B463-4011-A240-6719332BB3D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D8BF-E5DD-43C3-B990-81B022A0582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3650-659B-4FBC-83E5-A8E2CDB4F7B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89EB-82FB-413F-8159-08B074C226D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3.png"/><Relationship Id="rId6" Type="http://schemas.openxmlformats.org/officeDocument/2006/relationships/image" Target="../media/image7.jpeg"/><Relationship Id="rId7" Type="http://schemas.openxmlformats.org/officeDocument/2006/relationships/image" Target="../media/image3.png"/><Relationship Id="rId8" Type="http://schemas.openxmlformats.org/officeDocument/2006/relationships/image" Target="../media/image6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Oval 5"/>
          <p:cNvSpPr/>
          <p:nvPr/>
        </p:nvSpPr>
        <p:spPr>
          <a:xfrm>
            <a:off x="1962000" y="2770200"/>
            <a:ext cx="55908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6"/>
          <p:cNvSpPr/>
          <p:nvPr/>
        </p:nvSpPr>
        <p:spPr>
          <a:xfrm>
            <a:off x="-436680" y="2727360"/>
            <a:ext cx="8444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用 数 学 （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2284560" y="2435400"/>
            <a:ext cx="4832280" cy="360"/>
            <a:chOff x="2284560" y="2435400"/>
            <a:chExt cx="4832280" cy="360"/>
          </a:xfrm>
        </p:grpSpPr>
        <p:sp>
          <p:nvSpPr>
            <p:cNvPr id="989" name="Line 10"/>
            <p:cNvSpPr/>
            <p:nvPr/>
          </p:nvSpPr>
          <p:spPr>
            <a:xfrm>
              <a:off x="2284560" y="2435400"/>
              <a:ext cx="48322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 txBox="1"/>
            <p:nvPr/>
          </p:nvSpPr>
          <p:spPr>
            <a:xfrm>
              <a:off x="2284560" y="2435400"/>
              <a:ext cx="483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589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8"/>
          <p:cNvSpPr/>
          <p:nvPr/>
        </p:nvSpPr>
        <p:spPr>
          <a:xfrm>
            <a:off x="2317680" y="17589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9"/>
          <p:cNvSpPr/>
          <p:nvPr/>
        </p:nvSpPr>
        <p:spPr>
          <a:xfrm>
            <a:off x="49320" y="1766880"/>
            <a:ext cx="68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8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1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内的进位加法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一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/>
          </p:nvPr>
        </p:nvSpPr>
        <p:spPr>
          <a:xfrm>
            <a:off x="-360" y="642600"/>
            <a:ext cx="72104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方正书宋_GBK"/>
                <a:ea typeface="方正书宋_GBK"/>
              </a:rPr>
              <a:t>6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Group 19"/>
          <p:cNvGrpSpPr/>
          <p:nvPr/>
        </p:nvGrpSpPr>
        <p:grpSpPr>
          <a:xfrm>
            <a:off x="708120" y="2786040"/>
            <a:ext cx="2930400" cy="588960"/>
            <a:chOff x="708120" y="2786040"/>
            <a:chExt cx="2930400" cy="588960"/>
          </a:xfrm>
        </p:grpSpPr>
        <p:sp>
          <p:nvSpPr>
            <p:cNvPr id="999" name="Text Box 20"/>
            <p:cNvSpPr/>
            <p:nvPr/>
          </p:nvSpPr>
          <p:spPr>
            <a:xfrm>
              <a:off x="708120" y="2824200"/>
              <a:ext cx="2930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书宋_GBK"/>
                  <a:ea typeface="方正书宋_GBK"/>
                </a:rPr>
                <a:t>原来有多少个   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0" name="Picture 18" descr="428"/>
            <p:cNvPicPr/>
            <p:nvPr/>
          </p:nvPicPr>
          <p:blipFill>
            <a:blip r:embed="rId1"/>
            <a:stretch/>
          </p:blipFill>
          <p:spPr>
            <a:xfrm>
              <a:off x="2766960" y="2786040"/>
              <a:ext cx="371520" cy="52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1" name="Picture 2" descr="D:\我的文档-桌面-收藏夹\桌面\未标题-1.png"/>
          <p:cNvPicPr/>
          <p:nvPr/>
        </p:nvPicPr>
        <p:blipFill>
          <a:blip r:embed="rId2"/>
          <a:stretch/>
        </p:blipFill>
        <p:spPr>
          <a:xfrm>
            <a:off x="2643120" y="1714680"/>
            <a:ext cx="3649680" cy="1071360"/>
          </a:xfrm>
          <a:prstGeom prst="rect">
            <a:avLst/>
          </a:prstGeom>
          <a:ln w="0">
            <a:noFill/>
          </a:ln>
        </p:spPr>
      </p:pic>
      <p:grpSp>
        <p:nvGrpSpPr>
          <p:cNvPr id="1002" name="组合 7"/>
          <p:cNvGrpSpPr/>
          <p:nvPr/>
        </p:nvGrpSpPr>
        <p:grpSpPr>
          <a:xfrm>
            <a:off x="928800" y="984240"/>
            <a:ext cx="4000320" cy="1071720"/>
            <a:chOff x="928800" y="984240"/>
            <a:chExt cx="4000320" cy="1071720"/>
          </a:xfrm>
        </p:grpSpPr>
        <p:sp>
          <p:nvSpPr>
            <p:cNvPr id="1003" name="AutoShape 27"/>
            <p:cNvSpPr/>
            <p:nvPr/>
          </p:nvSpPr>
          <p:spPr>
            <a:xfrm>
              <a:off x="2223720" y="984240"/>
              <a:ext cx="2705400" cy="928800"/>
            </a:xfrm>
            <a:prstGeom prst="wedgeRoundRectCallout">
              <a:avLst>
                <a:gd name="adj1" fmla="val -63310"/>
                <a:gd name="adj2" fmla="val 3267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我们领走了</a:t>
              </a:r>
              <a:r>
                <a:rPr b="0" lang="en-US" sz="2500" spc="-1" strike="noStrike">
                  <a:solidFill>
                    <a:srgbClr val="1c1c1c"/>
                  </a:solidFill>
                  <a:latin typeface="宋体"/>
                </a:rPr>
                <a:t>7</a:t>
              </a: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个  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4" name="Picture 2" descr="D:\我的文档-桌面-收藏夹\桌面\7.gif"/>
            <p:cNvPicPr/>
            <p:nvPr/>
          </p:nvPicPr>
          <p:blipFill>
            <a:blip r:embed="rId3"/>
            <a:stretch/>
          </p:blipFill>
          <p:spPr>
            <a:xfrm flipH="1">
              <a:off x="928800" y="1131480"/>
              <a:ext cx="866160" cy="92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5" name="组合 18"/>
          <p:cNvGrpSpPr/>
          <p:nvPr/>
        </p:nvGrpSpPr>
        <p:grpSpPr>
          <a:xfrm>
            <a:off x="5219640" y="857160"/>
            <a:ext cx="3067200" cy="771480"/>
            <a:chOff x="5219640" y="857160"/>
            <a:chExt cx="3067200" cy="771480"/>
          </a:xfrm>
        </p:grpSpPr>
        <p:pic>
          <p:nvPicPr>
            <p:cNvPr id="1006" name="Picture 3" descr="D:\我的文档-桌面-收藏夹\桌面\2.jpg"/>
            <p:cNvPicPr/>
            <p:nvPr/>
          </p:nvPicPr>
          <p:blipFill>
            <a:blip r:embed="rId4"/>
            <a:stretch/>
          </p:blipFill>
          <p:spPr>
            <a:xfrm>
              <a:off x="7688520" y="857160"/>
              <a:ext cx="59832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7" name="AutoShape 27"/>
            <p:cNvSpPr/>
            <p:nvPr/>
          </p:nvSpPr>
          <p:spPr>
            <a:xfrm>
              <a:off x="5219640" y="915840"/>
              <a:ext cx="2094840" cy="712800"/>
            </a:xfrm>
            <a:prstGeom prst="wedgeRoundRectCallout">
              <a:avLst>
                <a:gd name="adj1" fmla="val 56967"/>
                <a:gd name="adj2" fmla="val 556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还剩下</a:t>
              </a:r>
              <a:r>
                <a:rPr b="0" lang="en-US" sz="2500" spc="-1" strike="noStrike">
                  <a:solidFill>
                    <a:srgbClr val="1c1c1c"/>
                  </a:solidFill>
                  <a:latin typeface="宋体"/>
                </a:rPr>
                <a:t>5</a:t>
              </a: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个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8" name="Picture 18" descr="428"/>
          <p:cNvPicPr/>
          <p:nvPr/>
        </p:nvPicPr>
        <p:blipFill>
          <a:blip r:embed="rId5"/>
          <a:stretch/>
        </p:blipFill>
        <p:spPr>
          <a:xfrm>
            <a:off x="4357800" y="1214280"/>
            <a:ext cx="371520" cy="524160"/>
          </a:xfrm>
          <a:prstGeom prst="rect">
            <a:avLst/>
          </a:prstGeom>
          <a:ln w="0">
            <a:noFill/>
          </a:ln>
        </p:spPr>
      </p:pic>
      <p:sp>
        <p:nvSpPr>
          <p:cNvPr id="1009" name="圆角矩形 32"/>
          <p:cNvSpPr/>
          <p:nvPr/>
        </p:nvSpPr>
        <p:spPr>
          <a:xfrm>
            <a:off x="503280" y="3378240"/>
            <a:ext cx="2343240" cy="785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知道了什么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0" name="组合 37"/>
          <p:cNvGrpSpPr/>
          <p:nvPr/>
        </p:nvGrpSpPr>
        <p:grpSpPr>
          <a:xfrm>
            <a:off x="5029200" y="4370400"/>
            <a:ext cx="3427560" cy="1600200"/>
            <a:chOff x="5029200" y="4370400"/>
            <a:chExt cx="3427560" cy="1600200"/>
          </a:xfrm>
        </p:grpSpPr>
        <p:grpSp>
          <p:nvGrpSpPr>
            <p:cNvPr id="1011" name="组合 26"/>
            <p:cNvGrpSpPr/>
            <p:nvPr/>
          </p:nvGrpSpPr>
          <p:grpSpPr>
            <a:xfrm>
              <a:off x="5029200" y="4370400"/>
              <a:ext cx="3427560" cy="1600200"/>
              <a:chOff x="5029200" y="4370400"/>
              <a:chExt cx="3427560" cy="1600200"/>
            </a:xfrm>
          </p:grpSpPr>
          <p:pic>
            <p:nvPicPr>
              <p:cNvPr id="1012" name="Picture 2" descr="D:\我的文档-桌面-收藏夹\桌面\1.jpg"/>
              <p:cNvPicPr/>
              <p:nvPr/>
            </p:nvPicPr>
            <p:blipFill>
              <a:blip r:embed="rId6"/>
              <a:stretch/>
            </p:blipFill>
            <p:spPr>
              <a:xfrm flipH="1">
                <a:off x="7771320" y="4570200"/>
                <a:ext cx="68544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3" name="AutoShape 27"/>
              <p:cNvSpPr/>
              <p:nvPr/>
            </p:nvSpPr>
            <p:spPr>
              <a:xfrm>
                <a:off x="5029200" y="4370400"/>
                <a:ext cx="2437560" cy="1600200"/>
              </a:xfrm>
              <a:prstGeom prst="wedgeRoundRectCallout">
                <a:avLst>
                  <a:gd name="adj1" fmla="val 58407"/>
                  <a:gd name="adj2" fmla="val 601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要求“原来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有多少个  ”。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4" name="Picture 18" descr="428"/>
            <p:cNvPicPr/>
            <p:nvPr/>
          </p:nvPicPr>
          <p:blipFill>
            <a:blip r:embed="rId7"/>
            <a:stretch/>
          </p:blipFill>
          <p:spPr>
            <a:xfrm>
              <a:off x="6477120" y="5170680"/>
              <a:ext cx="396000" cy="73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5" name="组合 18"/>
          <p:cNvGrpSpPr/>
          <p:nvPr/>
        </p:nvGrpSpPr>
        <p:grpSpPr>
          <a:xfrm>
            <a:off x="131760" y="4251240"/>
            <a:ext cx="4025880" cy="1838520"/>
            <a:chOff x="131760" y="4251240"/>
            <a:chExt cx="4025880" cy="1838520"/>
          </a:xfrm>
        </p:grpSpPr>
        <p:pic>
          <p:nvPicPr>
            <p:cNvPr id="1016" name="Picture 3" descr="D:\我的文档-桌面-收藏夹\桌面\2.jpg"/>
            <p:cNvPicPr/>
            <p:nvPr/>
          </p:nvPicPr>
          <p:blipFill>
            <a:blip r:embed="rId8"/>
            <a:stretch/>
          </p:blipFill>
          <p:spPr>
            <a:xfrm>
              <a:off x="131760" y="4251600"/>
              <a:ext cx="5392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7" name="AutoShape 27"/>
            <p:cNvSpPr/>
            <p:nvPr/>
          </p:nvSpPr>
          <p:spPr>
            <a:xfrm>
              <a:off x="956880" y="4251240"/>
              <a:ext cx="3200760" cy="1838520"/>
            </a:xfrm>
            <a:prstGeom prst="wedgeRoundRectCallout">
              <a:avLst>
                <a:gd name="adj1" fmla="val -57986"/>
                <a:gd name="adj2" fmla="val -1345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老师领  ，领走   </a:t>
              </a:r>
              <a:r>
                <a:rPr b="0" lang="en-US" sz="2500" spc="-1" strike="noStrike">
                  <a:solidFill>
                    <a:srgbClr val="1c1c1c"/>
                  </a:solidFill>
                  <a:latin typeface="宋体"/>
                </a:rPr>
                <a:t>   </a:t>
              </a: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个，还剩   个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矩形 35"/>
          <p:cNvSpPr/>
          <p:nvPr/>
        </p:nvSpPr>
        <p:spPr>
          <a:xfrm>
            <a:off x="3400560" y="4714920"/>
            <a:ext cx="428400" cy="428760"/>
          </a:xfrm>
          <a:prstGeom prst="rect">
            <a:avLst/>
          </a:prstGeom>
          <a:noFill/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矩形 35"/>
          <p:cNvSpPr/>
          <p:nvPr/>
        </p:nvSpPr>
        <p:spPr>
          <a:xfrm>
            <a:off x="2417760" y="5322960"/>
            <a:ext cx="428760" cy="428400"/>
          </a:xfrm>
          <a:prstGeom prst="rect">
            <a:avLst/>
          </a:prstGeom>
          <a:noFill/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31"/>
          <p:cNvSpPr/>
          <p:nvPr/>
        </p:nvSpPr>
        <p:spPr>
          <a:xfrm>
            <a:off x="2465280" y="53388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32"/>
          <p:cNvSpPr/>
          <p:nvPr/>
        </p:nvSpPr>
        <p:spPr>
          <a:xfrm>
            <a:off x="3459240" y="47307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2" name="Picture 18" descr="428"/>
          <p:cNvPicPr/>
          <p:nvPr/>
        </p:nvPicPr>
        <p:blipFill>
          <a:blip r:embed="rId9"/>
          <a:stretch/>
        </p:blipFill>
        <p:spPr>
          <a:xfrm>
            <a:off x="2122560" y="4667400"/>
            <a:ext cx="371520" cy="52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4" descr="315"/>
          <p:cNvPicPr/>
          <p:nvPr/>
        </p:nvPicPr>
        <p:blipFill>
          <a:blip r:embed="rId1"/>
          <a:stretch/>
        </p:blipFill>
        <p:spPr>
          <a:xfrm>
            <a:off x="2484360" y="3274920"/>
            <a:ext cx="3861000" cy="1030320"/>
          </a:xfrm>
          <a:prstGeom prst="rect">
            <a:avLst/>
          </a:prstGeom>
          <a:ln w="0">
            <a:noFill/>
          </a:ln>
        </p:spPr>
      </p:pic>
      <p:sp>
        <p:nvSpPr>
          <p:cNvPr id="1024" name="Rectangle 15"/>
          <p:cNvSpPr/>
          <p:nvPr/>
        </p:nvSpPr>
        <p:spPr>
          <a:xfrm>
            <a:off x="40680" y="53611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  <a:ea typeface="宋体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组合 26"/>
          <p:cNvGrpSpPr/>
          <p:nvPr/>
        </p:nvGrpSpPr>
        <p:grpSpPr>
          <a:xfrm>
            <a:off x="4786200" y="1941480"/>
            <a:ext cx="3714840" cy="1143000"/>
            <a:chOff x="4786200" y="1941480"/>
            <a:chExt cx="3714840" cy="1143000"/>
          </a:xfrm>
        </p:grpSpPr>
        <p:pic>
          <p:nvPicPr>
            <p:cNvPr id="1026" name="Picture 2" descr="D:\我的文档-桌面-收藏夹\桌面\1.jpg"/>
            <p:cNvPicPr/>
            <p:nvPr/>
          </p:nvPicPr>
          <p:blipFill>
            <a:blip r:embed="rId2"/>
            <a:stretch/>
          </p:blipFill>
          <p:spPr>
            <a:xfrm flipH="1">
              <a:off x="7858080" y="2084040"/>
              <a:ext cx="642960" cy="92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7" name="AutoShape 27"/>
            <p:cNvSpPr/>
            <p:nvPr/>
          </p:nvSpPr>
          <p:spPr>
            <a:xfrm>
              <a:off x="4786200" y="1941480"/>
              <a:ext cx="2714760" cy="1143000"/>
            </a:xfrm>
            <a:prstGeom prst="wedgeRoundRectCallout">
              <a:avLst>
                <a:gd name="adj1" fmla="val 58407"/>
                <a:gd name="adj2" fmla="val 60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哦！用加法计算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组合 18"/>
          <p:cNvGrpSpPr/>
          <p:nvPr/>
        </p:nvGrpSpPr>
        <p:grpSpPr>
          <a:xfrm>
            <a:off x="642600" y="1727280"/>
            <a:ext cx="3858120" cy="1500120"/>
            <a:chOff x="642600" y="1727280"/>
            <a:chExt cx="3858120" cy="1500120"/>
          </a:xfrm>
        </p:grpSpPr>
        <p:pic>
          <p:nvPicPr>
            <p:cNvPr id="1029" name="Picture 3" descr="D:\我的文档-桌面-收藏夹\桌面\2.jpg"/>
            <p:cNvPicPr/>
            <p:nvPr/>
          </p:nvPicPr>
          <p:blipFill>
            <a:blip r:embed="rId3"/>
            <a:stretch/>
          </p:blipFill>
          <p:spPr>
            <a:xfrm flipH="1">
              <a:off x="642600" y="1743840"/>
              <a:ext cx="571320" cy="9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0" name="AutoShape 27"/>
            <p:cNvSpPr/>
            <p:nvPr/>
          </p:nvSpPr>
          <p:spPr>
            <a:xfrm>
              <a:off x="1571760" y="1727280"/>
              <a:ext cx="2928960" cy="1500120"/>
            </a:xfrm>
            <a:prstGeom prst="wedgeRoundRectCallout">
              <a:avLst>
                <a:gd name="adj1" fmla="val -57986"/>
                <a:gd name="adj2" fmla="val -1345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可以画图表示，这表示剩下的</a:t>
              </a:r>
              <a:r>
                <a:rPr b="0" lang="en-US" sz="2500" spc="-1" strike="noStrike">
                  <a:solidFill>
                    <a:srgbClr val="1c1c1c"/>
                  </a:solidFill>
                  <a:latin typeface="宋体"/>
                </a:rPr>
                <a:t>……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1" name="圆角矩形 27"/>
          <p:cNvSpPr/>
          <p:nvPr/>
        </p:nvSpPr>
        <p:spPr>
          <a:xfrm>
            <a:off x="500040" y="833400"/>
            <a:ext cx="2071800" cy="785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怎样解答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组合 30"/>
          <p:cNvGrpSpPr/>
          <p:nvPr/>
        </p:nvGrpSpPr>
        <p:grpSpPr>
          <a:xfrm>
            <a:off x="2793960" y="4500720"/>
            <a:ext cx="4064040" cy="642960"/>
            <a:chOff x="2793960" y="4500720"/>
            <a:chExt cx="4064040" cy="642960"/>
          </a:xfrm>
        </p:grpSpPr>
        <p:sp>
          <p:nvSpPr>
            <p:cNvPr id="1033" name="Text Box 41"/>
            <p:cNvSpPr/>
            <p:nvPr/>
          </p:nvSpPr>
          <p:spPr>
            <a:xfrm>
              <a:off x="2793960" y="4595040"/>
              <a:ext cx="4064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7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5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       </a:t>
              </a:r>
              <a:r>
                <a:rPr b="0" lang="zh-CN" sz="25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个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矩形 28"/>
            <p:cNvSpPr/>
            <p:nvPr/>
          </p:nvSpPr>
          <p:spPr>
            <a:xfrm>
              <a:off x="4572000" y="4500720"/>
              <a:ext cx="642960" cy="642960"/>
            </a:xfrm>
            <a:prstGeom prst="rect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5" name="矩形 29"/>
          <p:cNvSpPr/>
          <p:nvPr/>
        </p:nvSpPr>
        <p:spPr>
          <a:xfrm>
            <a:off x="4605840" y="4572000"/>
            <a:ext cx="534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圆角矩形 31"/>
          <p:cNvSpPr/>
          <p:nvPr/>
        </p:nvSpPr>
        <p:spPr>
          <a:xfrm>
            <a:off x="357120" y="5214960"/>
            <a:ext cx="2071800" cy="785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解答正确吗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组合 38"/>
          <p:cNvGrpSpPr/>
          <p:nvPr/>
        </p:nvGrpSpPr>
        <p:grpSpPr>
          <a:xfrm>
            <a:off x="2643120" y="5286240"/>
            <a:ext cx="4064040" cy="642960"/>
            <a:chOff x="2643120" y="5286240"/>
            <a:chExt cx="4064040" cy="642960"/>
          </a:xfrm>
        </p:grpSpPr>
        <p:sp>
          <p:nvSpPr>
            <p:cNvPr id="1038" name="Text Box 41"/>
            <p:cNvSpPr/>
            <p:nvPr/>
          </p:nvSpPr>
          <p:spPr>
            <a:xfrm>
              <a:off x="2643120" y="5380560"/>
              <a:ext cx="4064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书宋_GBK"/>
                  <a:ea typeface="方正书宋_GBK"/>
                </a:rPr>
                <a:t>原来有            个      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35"/>
            <p:cNvSpPr/>
            <p:nvPr/>
          </p:nvSpPr>
          <p:spPr>
            <a:xfrm>
              <a:off x="4278240" y="5286240"/>
              <a:ext cx="642960" cy="642960"/>
            </a:xfrm>
            <a:prstGeom prst="rect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0" name="Picture 18" descr="428"/>
            <p:cNvPicPr/>
            <p:nvPr/>
          </p:nvPicPr>
          <p:blipFill>
            <a:blip r:embed="rId4"/>
            <a:stretch/>
          </p:blipFill>
          <p:spPr>
            <a:xfrm>
              <a:off x="5415120" y="5357520"/>
              <a:ext cx="371160" cy="52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矩形 37"/>
          <p:cNvSpPr/>
          <p:nvPr/>
        </p:nvSpPr>
        <p:spPr>
          <a:xfrm>
            <a:off x="4320720" y="5357880"/>
            <a:ext cx="534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2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Text Box 20"/>
          <p:cNvSpPr/>
          <p:nvPr/>
        </p:nvSpPr>
        <p:spPr>
          <a:xfrm>
            <a:off x="1488960" y="45910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来有多少个鸡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Group 30"/>
          <p:cNvGrpSpPr/>
          <p:nvPr/>
        </p:nvGrpSpPr>
        <p:grpSpPr>
          <a:xfrm>
            <a:off x="2865600" y="5432400"/>
            <a:ext cx="2950920" cy="478800"/>
            <a:chOff x="2865600" y="5432400"/>
            <a:chExt cx="2950920" cy="478800"/>
          </a:xfrm>
        </p:grpSpPr>
        <p:sp>
          <p:nvSpPr>
            <p:cNvPr id="1044" name="Text Box 35"/>
            <p:cNvSpPr/>
            <p:nvPr/>
          </p:nvSpPr>
          <p:spPr>
            <a:xfrm>
              <a:off x="2865600" y="545148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36"/>
            <p:cNvSpPr/>
            <p:nvPr/>
          </p:nvSpPr>
          <p:spPr>
            <a:xfrm>
              <a:off x="3557520" y="5432400"/>
              <a:ext cx="4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 Box 37"/>
            <p:cNvSpPr/>
            <p:nvPr/>
          </p:nvSpPr>
          <p:spPr>
            <a:xfrm>
              <a:off x="4197240" y="5451480"/>
              <a:ext cx="5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Text Box 38"/>
            <p:cNvSpPr/>
            <p:nvPr/>
          </p:nvSpPr>
          <p:spPr>
            <a:xfrm>
              <a:off x="5151600" y="5451480"/>
              <a:ext cx="66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Group 35"/>
          <p:cNvGrpSpPr/>
          <p:nvPr/>
        </p:nvGrpSpPr>
        <p:grpSpPr>
          <a:xfrm>
            <a:off x="2878200" y="5343480"/>
            <a:ext cx="4122720" cy="642600"/>
            <a:chOff x="2878200" y="5343480"/>
            <a:chExt cx="4122720" cy="642600"/>
          </a:xfrm>
        </p:grpSpPr>
        <p:sp>
          <p:nvSpPr>
            <p:cNvPr id="1049" name="Rectangle 21"/>
            <p:cNvSpPr/>
            <p:nvPr/>
          </p:nvSpPr>
          <p:spPr>
            <a:xfrm>
              <a:off x="2878200" y="543564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24"/>
            <p:cNvSpPr/>
            <p:nvPr/>
          </p:nvSpPr>
          <p:spPr>
            <a:xfrm>
              <a:off x="3548160" y="5427720"/>
              <a:ext cx="503280" cy="502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Text Box 25"/>
            <p:cNvSpPr/>
            <p:nvPr/>
          </p:nvSpPr>
          <p:spPr>
            <a:xfrm>
              <a:off x="4665960" y="5343480"/>
              <a:ext cx="63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Text Box 26"/>
            <p:cNvSpPr/>
            <p:nvPr/>
          </p:nvSpPr>
          <p:spPr>
            <a:xfrm>
              <a:off x="5632560" y="5421240"/>
              <a:ext cx="13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个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21"/>
            <p:cNvSpPr/>
            <p:nvPr/>
          </p:nvSpPr>
          <p:spPr>
            <a:xfrm>
              <a:off x="4205520" y="543564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21"/>
            <p:cNvSpPr/>
            <p:nvPr/>
          </p:nvSpPr>
          <p:spPr>
            <a:xfrm>
              <a:off x="5232600" y="5435640"/>
              <a:ext cx="503280" cy="503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Rectangle 42"/>
          <p:cNvSpPr/>
          <p:nvPr/>
        </p:nvSpPr>
        <p:spPr>
          <a:xfrm>
            <a:off x="40680" y="6218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  <a:ea typeface="宋体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Picture 2" descr="D:\我的文档-桌面-收藏夹\桌面\未标题-2.png"/>
          <p:cNvPicPr/>
          <p:nvPr/>
        </p:nvPicPr>
        <p:blipFill>
          <a:blip r:embed="rId1"/>
          <a:stretch/>
        </p:blipFill>
        <p:spPr>
          <a:xfrm>
            <a:off x="1297080" y="3605040"/>
            <a:ext cx="3435120" cy="729000"/>
          </a:xfrm>
          <a:prstGeom prst="rect">
            <a:avLst/>
          </a:prstGeom>
          <a:ln w="0">
            <a:noFill/>
          </a:ln>
        </p:spPr>
      </p:pic>
      <p:grpSp>
        <p:nvGrpSpPr>
          <p:cNvPr id="1057" name="Group 11"/>
          <p:cNvGrpSpPr/>
          <p:nvPr/>
        </p:nvGrpSpPr>
        <p:grpSpPr>
          <a:xfrm>
            <a:off x="798840" y="2101320"/>
            <a:ext cx="4277880" cy="1609560"/>
            <a:chOff x="798840" y="2101320"/>
            <a:chExt cx="4277880" cy="1609560"/>
          </a:xfrm>
        </p:grpSpPr>
        <p:sp>
          <p:nvSpPr>
            <p:cNvPr id="1058" name="云形标注 24"/>
            <p:cNvSpPr/>
            <p:nvPr/>
          </p:nvSpPr>
          <p:spPr>
            <a:xfrm>
              <a:off x="2399040" y="2388960"/>
              <a:ext cx="2677680" cy="786600"/>
            </a:xfrm>
            <a:prstGeom prst="cloudCallout">
              <a:avLst>
                <a:gd name="adj1" fmla="val -62254"/>
                <a:gd name="adj2" fmla="val 61087"/>
              </a:avLst>
            </a:prstGeom>
            <a:solidFill>
              <a:srgbClr val="00ccff"/>
            </a:solidFill>
            <a:ln w="25560">
              <a:solidFill>
                <a:srgbClr val="89a4a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吃了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鸡蛋，还剩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9" name="Picture 15" descr="男天使"/>
            <p:cNvPicPr/>
            <p:nvPr/>
          </p:nvPicPr>
          <p:blipFill>
            <a:blip r:embed="rId2"/>
            <a:stretch/>
          </p:blipFill>
          <p:spPr>
            <a:xfrm flipH="1" rot="21420000">
              <a:off x="837360" y="2143080"/>
              <a:ext cx="1641240" cy="152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0" name="组合 8"/>
          <p:cNvGrpSpPr/>
          <p:nvPr/>
        </p:nvGrpSpPr>
        <p:grpSpPr>
          <a:xfrm>
            <a:off x="0" y="155520"/>
            <a:ext cx="3713040" cy="527040"/>
            <a:chOff x="0" y="155520"/>
            <a:chExt cx="3713040" cy="527040"/>
          </a:xfrm>
        </p:grpSpPr>
        <p:pic>
          <p:nvPicPr>
            <p:cNvPr id="1061" name="圆角矩形 9" descr=""/>
            <p:cNvPicPr/>
            <p:nvPr/>
          </p:nvPicPr>
          <p:blipFill>
            <a:blip r:embed="rId3"/>
            <a:stretch/>
          </p:blipFill>
          <p:spPr>
            <a:xfrm>
              <a:off x="176400" y="155520"/>
              <a:ext cx="3536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2" name="组合 4"/>
            <p:cNvGrpSpPr/>
            <p:nvPr/>
          </p:nvGrpSpPr>
          <p:grpSpPr>
            <a:xfrm>
              <a:off x="0" y="250560"/>
              <a:ext cx="493560" cy="274680"/>
              <a:chOff x="0" y="250560"/>
              <a:chExt cx="493560" cy="274680"/>
            </a:xfrm>
          </p:grpSpPr>
          <p:sp>
            <p:nvSpPr>
              <p:cNvPr id="1063" name="椭圆 11"/>
              <p:cNvSpPr/>
              <p:nvPr/>
            </p:nvSpPr>
            <p:spPr>
              <a:xfrm rot="16200000">
                <a:off x="254880" y="41184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4" name="椭圆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72880" y="36504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5" name="椭圆 4"/>
              <p:cNvSpPr/>
              <p:nvPr/>
            </p:nvSpPr>
            <p:spPr>
              <a:xfrm rot="16200000">
                <a:off x="254880" y="28188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椭圆 30" descr=""/>
              <p:cNvPicPr/>
              <p:nvPr/>
            </p:nvPicPr>
            <p:blipFill>
              <a:blip r:embed="rId5"/>
              <a:stretch/>
            </p:blipFill>
            <p:spPr>
              <a:xfrm>
                <a:off x="272880" y="26352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7" name="圆角矩形 3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794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8" name="圆角矩形 3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542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9" name="圆角矩形 33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2757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0" name="圆角矩形 34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2505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1" name="Rectangle 64"/>
          <p:cNvSpPr/>
          <p:nvPr/>
        </p:nvSpPr>
        <p:spPr>
          <a:xfrm>
            <a:off x="900000" y="182520"/>
            <a:ext cx="1973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宋体"/>
                <a:ea typeface="楷体_GB2312"/>
              </a:rPr>
              <a:t>做一做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3T07:45:57Z</dcterms:created>
  <dc:creator/>
  <dc:description/>
  <dc:language>en-US</dc:language>
  <cp:lastModifiedBy>万润仪器贸易公司</cp:lastModifiedBy>
  <dcterms:modified xsi:type="dcterms:W3CDTF">2020-08-18T09:52:35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